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028-F9E2-45F3-9EFD-2AB54AAA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2BF-1CA9-48BC-A51C-FFFFBA39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08A-2361-4D0F-A59B-C85EC946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24B-0DC3-44B6-AD66-BBC92292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F7A2-4904-42F6-81CB-F86E3ED2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72DC-49D9-49E9-9B7C-A6B5686F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FF7B-0D85-4501-92CE-6AD422A6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7A0-5003-41CE-AFBA-58F3F03A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FA31-D7A9-4C80-9293-44E62BC4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7F06-70BD-491C-8140-744E4465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69FD-2003-4055-869D-3C28C147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A71-FC02-4A8C-BB71-BDFA3983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CC80-B619-4A77-9576-69CB015D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22FF-C13B-463B-849D-32C5707E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7E2D-9860-48A1-9ED1-2EC46705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139F-911E-48A2-B060-A0893640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089E-6641-446F-A805-1DAD4AD4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8E2-D7F2-4325-93BF-B43F96EA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0A0-534B-4F0B-8D7D-B461ED67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E6D-C1CA-4093-9D99-AC5381E4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E9D-2D44-4783-AECD-0CBD7169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F5C-B7FD-448B-B70C-B7871D9E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2E5-E14D-4EEE-A003-D1785C38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D33-A63B-4D05-BF18-A40BD355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FADB-46FC-4AD0-A013-156A2240A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A027-DD11-4EA6-9BEA-D86433A9114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1828440"/>
            <a:ext cx="7085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Lincoln Douglas Deb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locking the Doors to Persua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ample CRITERI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cke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usseau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bb’s Social Contr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wls’ Distributive Jus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ntham’s Principle of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ill’s Utilitarian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ant’s Categorical Imper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slow’s Theory of Self-Actual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ree main ways to win an LD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supported by your case,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upported by your opponent's case, 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uperi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your opponent’s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s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tter supports your value than your opponent’s case supports thei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ve that your case better supports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BOTH valu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an your opponent’s case supports either 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ound Struct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C (affirmative constructive) = 6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g. cx (cross examine) of Aff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C (negative constructiv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R) = 7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ff. cx of Neg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AR (affirmative rebuttal) =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 NR (negative rebuttal) = 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AR (affirmative rebuttal) = 3 mi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(Each side also has 4 total minutes of Prep Tim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trodu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ing quotation(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ustification for your si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the Re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Val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your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 all Ter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view your Contentions (main claim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entions” are your main points.  Your main claim is called your “Tag Line” (statement of your opin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Bo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Taking the life of even one individual undermines the basic right to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ife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ONE: Taking a life is immor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UBPOINT TWO: It is immoral to assume any life is more valuable than anothe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Killing even one person will not result in the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reatest goo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 of your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ntention III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claim- ex. “Violating life also violates other basic rights.”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port/evidence/philosophy/analysis (Subpoints 1, 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urther support of your side of the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ffirm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egativ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mmarize main ide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-stated Value/Crite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ding quotation(s)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TTACK AFFIRMA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wo: Case-wri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Attac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eir Value &amp; Crite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how these uphold the Resol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thei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Each Conten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evidence or philosophy us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entral Ideas of their C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flaws in reasoning/log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 out items they should have addressed, but did n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he Negative tries to cast doubt upon the Aff position (and vice vers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NOT make statements in cx- as questions and gain answers on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allow your opponent to evade answering your ques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cx, try to boil your opponent’s case down to a few simple poi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rude during cx- always thank your opponent for the answ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Three: Cross Examin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clarification questions for information you may have missed on your Flow She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 the Answerer, answer as clearly and simply as poss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nfidence in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, don’t get ang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out to the JUDGE during cx, do not look at your oppon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esolutio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based in a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flict (ex. Whether the Individual is more valuable than the Society, or whether something is Just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is determined by the National Forensic League (NF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olution will change every 2 month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our:  Rebutta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 the same rules outlined for the last half of the 1N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NEW POINTS may be brought up in these spee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ck-up evidence is useful, but not necessary.  LD should not be an evidence war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last 2AC should be used to CRYSTALLIZE the round (and state why you have won the roun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the god or goddess in the ro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judg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you must imp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r opponent does not exist- they are merely a dissenting voice to the truth you spea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vince yourself you ar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righ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 order to win the rou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to the type of judge you think you have (experienced or not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Five:  Speaking St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ak smoothly, without use of “uh…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y your tone, rate, volume and inflection for emph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 your case in front of a mirr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tilize controlled gestures and eye contact with you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yourself time to breat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polite and conversational 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re are 2 debaters in the rou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AFFIRM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upholds the Resolution the way it is st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rgues against the Re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entral theme of LD Debate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y close attention to the definitions you use- it is best to use the first one out of the dictionary, since this is the most common, and the one your judge will be most familiar with (and will agree with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ok at the Abe &amp; Steve debate: the whole point of that debate was whether slaves were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DEFINE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s human beings or no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re the key words that need to be defined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ptember/October Topic i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f307"/>
                </a:solidFill>
                <a:uFillTx/>
                <a:latin typeface="Tahoma"/>
              </a:rPr>
              <a:t>RESOLVED</a:t>
            </a:r>
            <a:r>
              <a:rPr b="0" lang="en-US" sz="3200" spc="-1" strike="noStrike">
                <a:solidFill>
                  <a:srgbClr val="ddf307"/>
                </a:solidFill>
                <a:latin typeface="Tahoma"/>
              </a:rPr>
              <a:t>:  It is morally permissible to kill one innocent person to save the lives of more innocent peop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E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evaluative term) in this Res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O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object of evaluation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n be anything, as long as they are supported (Criteri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ble to explain why it is important off the top of your head without quoting from your c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in your Val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ample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tilitarian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Quality of 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iviliz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lobal Secur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uman Dign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rt One:  An 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RITER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hilosophies and/or contracts that will uphold the Value you choo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heory to help you prove your Value is more persuas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9:18:26Z</dcterms:created>
  <dc:creator>Frisco ISD</dc:creator>
  <dc:description/>
  <dc:language>en-US</dc:language>
  <cp:lastModifiedBy>Frisco ISD</cp:lastModifiedBy>
  <dcterms:modified xsi:type="dcterms:W3CDTF">2008-09-11T15:44:45Z</dcterms:modified>
  <cp:revision>18</cp:revision>
  <dc:subject/>
  <dc:title>Lincoln Douglas Debate</dc:title>
</cp:coreProperties>
</file>